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1F1-37DF-4C7E-BCE0-75339E34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771-BE84-4C03-8BAA-3B56406D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38E-367B-46DD-9125-96D3E9D6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4FF-236C-45F7-AE22-6AE8D416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D64C-E464-4388-B975-00EB8F98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98A7-A58F-48C9-81DD-D2CDF8CF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A2F3-2EBB-4254-BF26-EFF9C860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539B-08FE-4D0C-9FEF-F0D79CA6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9C64-53E9-4130-9D3A-74CDD1D9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9418-B8D8-409D-8A75-68260D67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D220-047B-4D92-ABD7-B4A63933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99D-604C-49D9-A1CD-32A69F22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09DE-B8C7-455D-9A9F-2C11C43D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BE64-1430-44B6-9FFB-A510A8CC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F0A4-9227-469A-B92B-03BA99F2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0D7B-5341-47F8-A6D3-837FB366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F28E-66EB-46BB-80EC-B6AA851D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525-B412-44EF-A1DD-2076C3BE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C0A-2AAA-47CA-AD27-FFC4DCBC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B5C-4DA9-4DB2-9848-86DC62DD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318-30DB-4C27-AA14-2538CBB7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053-5D85-4BC2-BC42-FE18BDBE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2D9-2EC7-4D5D-B92E-6AD7BC6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D9B-2975-401B-9E5C-E8EA2A62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44BD-E27E-46BB-BEA7-314DB22041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839F-121B-4AA3-84CF-27ED1AAADE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200" spc="-1" strike="noStrike">
                <a:solidFill>
                  <a:srgbClr val="ffffff"/>
                </a:solidFill>
                <a:latin typeface="comic"/>
              </a:rPr>
              <a:t>John BAtma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lackadder ITC"/>
              </a:rPr>
              <a:t>B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lackadder ITC"/>
              </a:rPr>
              <a:t>Dav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he famous for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John Batman is famous for being one of the first settlements in Melbourne. He noted in his diary ”this will be a place for a village” . He is also famous for catching outlaws like Matthew Brad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he significant pers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The significant person is John Batm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helped aborigines  in Tasmania by making a line and  putting the aborigines in a manageable are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Mov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3980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is he remember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John Batman is remembered by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Stre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Statu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he help the development of Australi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found Melbourn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helped the aborigin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Born: January 21 180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Died:1839- - (aged 37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Occupation: pioneer, explor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Background: Australia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Parents: Elizabeth, William Batman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ope you loved the sho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0:54:28Z</dcterms:created>
  <dc:creator>Norian Teodora</dc:creator>
  <dc:description/>
  <dc:language>en-US</dc:language>
  <cp:lastModifiedBy>Norian Teodora</cp:lastModifiedBy>
  <dcterms:modified xsi:type="dcterms:W3CDTF">2010-06-17T10:10:28Z</dcterms:modified>
  <cp:revision>3</cp:revision>
  <dc:subject/>
  <dc:title>John BAtman</dc:title>
</cp:coreProperties>
</file>