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054-F860-4DE9-88FA-4DAE03BC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6D7-ACC1-4EA6-98BB-7016563E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D71-841A-4DE1-A8F9-EF4DE462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9A5-961B-42C0-B3F2-D7A900BE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415-2EB4-4F4C-B9A7-ED00390C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9B47-35AC-426F-96F5-7E87858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D49-5DDD-4286-BD9F-D539C9B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2E2A-299E-45B8-ABC2-14A07AC3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B79-035F-48A8-8A9B-FDB8999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BD31-905C-4AF7-80DC-308EB83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863E-DCC0-4084-8D78-C460311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88F-F77C-486D-9EF3-72B2530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516-3EE3-46B0-AFEC-D7F6F53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D81E-C3E7-48BD-BF55-5E465A3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BB04-607B-4D60-9367-853EF33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472C-5A36-4831-8C68-1EC3C400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F15-D3F2-47BC-82E2-3F3D5E1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042-519A-49B8-A5C2-0B595B87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969-0989-4FEC-A822-84D6CE4E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7BD-6295-4F86-8317-92AD557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4A0-EB77-4AC2-BA6F-AEE5DA04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F74-079D-4F0A-94D1-83A415F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4F6-7109-4E98-9E79-9F7BB45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655-38C0-4E64-AF20-EEB6996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6905-6C71-4FB8-B087-411263C3C3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86D-82A7-4E68-8860-4E3094B26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200" spc="-1" strike="noStrike">
                <a:solidFill>
                  <a:srgbClr val="ffffff"/>
                </a:solidFill>
                <a:latin typeface="comic"/>
              </a:rPr>
              <a:t>John BAtm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B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Dav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 famous f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famous for being one of the first settlements in Melbourne. He noted in his diary ”this will be a place for a village” . He is also famous for catching outlaws like Matthew Brad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he significant pers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The significant person is John Batm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aborigines  in Tasmania by making a line and  putting the aborigines in a manageable are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980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he remember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remembered b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re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atu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he help the development of Austral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found Melbour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the aborigi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orn: January 21 180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Died:1839- - (aged 37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Occupation: pioneer, explor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ackground: Australia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Parents: Elizabeth, William Batma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ope you loved the s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0:54:28Z</dcterms:created>
  <dc:creator>Norian Teodora</dc:creator>
  <dc:description/>
  <dc:language>en-US</dc:language>
  <cp:lastModifiedBy>Norian Teodora</cp:lastModifiedBy>
  <dcterms:modified xsi:type="dcterms:W3CDTF">2010-06-17T10:10:28Z</dcterms:modified>
  <cp:revision>3</cp:revision>
  <dc:subject/>
  <dc:title>John BAtman</dc:title>
</cp:coreProperties>
</file>