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1FE-77C7-435A-9216-1ACCE536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A42-0CE4-4D31-89EC-6D64C002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DDC-72F3-4B57-857C-AB9EAD8E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2F0-A2E8-414B-A383-41BBDB2C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0F90-44E9-47B5-B060-DE032BA8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2634-8702-4D55-BF1A-F4237F9B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0A40-C553-483B-AD33-D24BE46A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384E-41E8-4790-B60C-A8ADA712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93C1-E43F-4653-95E9-EC2488E9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4338-753B-48AE-B8B2-04C12B04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74EB-1D7E-49FA-AC01-B40ECF64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63F-E7C6-4D97-AC53-CDF882CE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4275-3F60-4194-922F-9092E149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6BFD-EBEA-4250-9E94-DC77CE5A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CB7D-9D4B-4390-8CB7-6EE61263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3F0C-A889-4128-8A1E-E9F39EF4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85F8-4438-4051-9667-5A1E4050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540D-332E-4051-815A-14E9B01A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CF0-D297-4D0B-ACC3-680A236D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101-8313-4FC7-9886-C7A3FA2C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087-7237-4E8A-AC13-852C81D0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A3A-541F-4CA4-ADE2-34092DA5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F9B-29AA-4311-B29A-0BA2B0D8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F19-8DC6-40F8-AEC9-B081A5D6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150B-F74B-482F-A8CA-BA53AEE559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742C-FB8A-4F7E-AFB6-BA3B772EE2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200" spc="-1" strike="noStrike">
                <a:solidFill>
                  <a:srgbClr val="ffffff"/>
                </a:solidFill>
                <a:latin typeface="comic"/>
              </a:rPr>
              <a:t>John BAtman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lackadder ITC"/>
              </a:rPr>
              <a:t>B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lackadder ITC"/>
              </a:rPr>
              <a:t>Dav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he famous for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John Batman is famous for being one of the first settlements in Melbourne. He noted in his diary ”this will be a place for a village” . He is also famous for catching outlaws like Matthew Brad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he significant pers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The significant person is John Batma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He helped aborigines  in Tasmania by making a line and  putting the aborigines in a manageable are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Movi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39800" y="157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is he remember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John Batman is remembered by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Stre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Statu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id he help the development of Australi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He found Melbourn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He helped the aborigin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Born: January 21 180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Died:1839- - (aged 37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Occupation: pioneer, explor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Background: Australia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Parents: Elizabeth, William Batman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d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lackadder ITC"/>
              </a:rPr>
              <a:t>Hope you loved the show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0:54:28Z</dcterms:created>
  <dc:creator>Norian Teodora</dc:creator>
  <dc:description/>
  <dc:language>en-US</dc:language>
  <cp:lastModifiedBy>Norian Teodora</cp:lastModifiedBy>
  <dcterms:modified xsi:type="dcterms:W3CDTF">2010-06-17T10:10:28Z</dcterms:modified>
  <cp:revision>3</cp:revision>
  <dc:subject/>
  <dc:title>John BAtman</dc:title>
</cp:coreProperties>
</file>