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DA0-9701-49B7-933B-95EA6DE7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67C-35FB-412B-9900-4CCDC20A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D8C-63EB-4676-865E-BD289151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00B-EF98-4C92-9325-C1C3D542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D697-1019-4E14-BDDC-5EB9CAB3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428F-F6BA-4A19-BBC6-4548689F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B497-6571-4F4C-AE4A-CCAA4737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E5D5-FF38-415A-A31B-1C97A282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717C-5BBB-49E0-920A-07844DDA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BDDD-EA92-4A50-B201-6319E81D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8A70-F66F-4C87-A8C9-56AC800A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1B9-C7C4-437A-937A-3C4D320E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3431-CF4A-4165-B46A-5F08C3CF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8542-78FE-4DCF-BCE1-ABC53340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D2D6-FF67-4642-87CB-D0B47E9F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1210-5F6F-4261-8214-1CC9F999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167D-8F71-49A3-8037-C9B8B078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8FF-45B2-4A5E-B01A-346E0F34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102-B55B-4FD2-B1F7-5D5BDEC4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623-5022-4DBA-884C-09F7D245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C60-EF11-4B98-A341-14FEA208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7DD-4BC1-4D16-9828-84D6DA66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2BD-50FA-4E16-B1BE-C551B1CC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251-36FB-472B-9A58-517686A6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F365-1904-4BA8-8ED5-A339861E0B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285D-1F27-4A37-B959-8006B466CD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200" spc="-1" strike="noStrike">
                <a:solidFill>
                  <a:srgbClr val="ffffff"/>
                </a:solidFill>
                <a:latin typeface="comic"/>
              </a:rPr>
              <a:t>John BAtman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lackadder ITC"/>
              </a:rPr>
              <a:t>B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lackadder ITC"/>
              </a:rPr>
              <a:t>Dav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he famous for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John Batman is famous for being one of the first settlements in Melbourne. He noted in his diary ”this will be a place for a village” . He is also famous for catching outlaws like Matthew Brad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he significant pers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The significant person is John Batma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He helped aborigines  in Tasmania by making a line and  putting the aborigines in a manageable are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Movi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39800" y="157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is he remember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John Batman is remembered by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Stre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Statu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id he help the development of Australi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He found Melbourn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He helped the aborigin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Born: January 21 180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Died:1839- - (aged 37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Occupation: pioneer, explor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Background: Australia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Parents: Elizabeth, William Batman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d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Hope you loved the show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0:54:28Z</dcterms:created>
  <dc:creator>Norian Teodora</dc:creator>
  <dc:description/>
  <dc:language>en-US</dc:language>
  <cp:lastModifiedBy>Norian Teodora</cp:lastModifiedBy>
  <dcterms:modified xsi:type="dcterms:W3CDTF">2010-06-17T10:10:28Z</dcterms:modified>
  <cp:revision>3</cp:revision>
  <dc:subject/>
  <dc:title>John BAtman</dc:title>
</cp:coreProperties>
</file>